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EC7-28A3-4EDE-9C8C-734D39D2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9E5-5C9A-4A61-8640-A8FF5DBB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CB7-AD17-40A3-98D4-08E84E5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DAC-3FA3-4AD1-9605-6FBBC8F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D2-BF65-4E22-8929-0F1C3888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DE8-6F49-4E48-AAEE-3C3B755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DF8-7B65-4D6F-92F8-41C9C31C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1CA-7A6D-469E-8554-847E16B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E35-407D-4B20-ADD5-AF4FE90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62-17CF-4194-B12E-C345C7D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9FB-47DD-4B8E-A2BE-A11E510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DCD-F7CC-4423-B32B-622442D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8CD-2211-4FA6-895B-65EEF7865E4A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Envol 5: 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Les verbes (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-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1520" y="2438280"/>
            <a:ext cx="843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se Verben sind regelmässi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Endungen (</a:t>
            </a:r>
            <a:r>
              <a:rPr b="1" lang="en-US" sz="3600" spc="-1" strike="noStrike">
                <a:solidFill>
                  <a:srgbClr val="fa4e19"/>
                </a:solidFill>
                <a:latin typeface="Arial"/>
              </a:rPr>
              <a:t>r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sind immer glei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halb gehören sie zu d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chten Ver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essi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eichn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ss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ss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1040" y="5867280"/>
            <a:ext cx="5034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essi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ravaill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arbei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avail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avail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90680" y="5867280"/>
            <a:ext cx="49082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rawa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lori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(ausmalen,färb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6800" y="1946160"/>
            <a:ext cx="35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lor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lor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2480" y="5867280"/>
            <a:ext cx="5133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olor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rouv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find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1946160"/>
            <a:ext cx="346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ouv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ouv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91400" y="5867280"/>
            <a:ext cx="4551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ru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Black"/>
              </a:rPr>
              <a:t>cherch</a:t>
            </a:r>
            <a:r>
              <a:rPr b="0" lang="fr-FR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fr-FR" sz="4400" spc="-1" strike="noStrike">
                <a:solidFill>
                  <a:srgbClr val="000000"/>
                </a:solidFill>
                <a:latin typeface="Arial Black"/>
              </a:rPr>
              <a:t> (su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7160" y="1946160"/>
            <a:ext cx="38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er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er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5943600"/>
            <a:ext cx="83149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ach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versteck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1946160"/>
            <a:ext cx="34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a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a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0120" y="5867280"/>
            <a:ext cx="7906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a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arl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pre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1946160"/>
            <a:ext cx="32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ar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ar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1040" y="5867280"/>
            <a:ext cx="4425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ar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ntinu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(weitermac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6800" y="1946160"/>
            <a:ext cx="391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in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in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4640" y="5867280"/>
            <a:ext cx="75204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c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inü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han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in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6240" y="5562720"/>
            <a:ext cx="5187600" cy="119124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 / 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evi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ra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6800" y="1946160"/>
            <a:ext cx="35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v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v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2480" y="5867280"/>
            <a:ext cx="4905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öwi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rache und Endun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46160"/>
            <a:ext cx="722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schö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tü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il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nu rögar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vu rögard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il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our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drehen,wend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7160" y="1946160"/>
            <a:ext cx="34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r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r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1400" y="5867280"/>
            <a:ext cx="44755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ur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baiss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enk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6800" y="1946160"/>
            <a:ext cx="35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aiss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aiss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0680" y="5867280"/>
            <a:ext cx="46292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bes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i</a:t>
            </a:r>
            <a:r>
              <a:rPr b="0" lang="en-US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(beugen,fal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946160"/>
            <a:ext cx="290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l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l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91760" y="5867280"/>
            <a:ext cx="41187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l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sau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hüpfen,jump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946160"/>
            <a:ext cx="330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a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a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91400" y="5867280"/>
            <a:ext cx="4551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soo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bou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bewe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6800" y="194616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bou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ou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ou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200" y="5867280"/>
            <a:ext cx="7827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buu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jou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piel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6800" y="1946160"/>
            <a:ext cx="305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Jo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Jo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4720" y="5791320"/>
            <a:ext cx="7269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u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écou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uhör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91040" y="5867280"/>
            <a:ext cx="4527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cu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aim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lie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7160" y="1946160"/>
            <a:ext cx="318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0680" y="5867280"/>
            <a:ext cx="42483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regard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hinschau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1040" y="5867280"/>
            <a:ext cx="5034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rögard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man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ess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7160" y="194616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man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2760" y="5867280"/>
            <a:ext cx="7575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m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sch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montr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ei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7160" y="1946160"/>
            <a:ext cx="361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ontr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ontr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120" y="5791320"/>
            <a:ext cx="71665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m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r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ouch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berühr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5040" y="5791320"/>
            <a:ext cx="75254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u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han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 Black"/>
              </a:rPr>
              <a:t>(wechseln,tausc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6800" y="1946160"/>
            <a:ext cx="369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an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6120" y="5410080"/>
            <a:ext cx="5823000" cy="119124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  / 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mp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ähl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7160" y="1946160"/>
            <a:ext cx="368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mp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mp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6920" y="5867280"/>
            <a:ext cx="71391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on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ge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6800" y="194616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on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on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2120" y="5867280"/>
            <a:ext cx="4702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on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8:30:31Z</dcterms:created>
  <dc:creator>Fredy Tochtermann</dc:creator>
  <dc:description/>
  <dc:language>en-US</dc:language>
  <cp:lastModifiedBy>Fredy Tochtermann</cp:lastModifiedBy>
  <dcterms:modified xsi:type="dcterms:W3CDTF">2006-08-04T06:56:23Z</dcterms:modified>
  <cp:revision>20</cp:revision>
  <dc:subject/>
  <dc:title>Envol 5: Les verbes</dc:title>
</cp:coreProperties>
</file>