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4631-CB06-4BA2-A1AF-9787EE94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3AB5-6D2C-4C34-85E0-AE30F499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3C5-C5BE-4DA5-B3B2-1B83B87E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136-5C01-4877-9011-4C18EACD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9F6-F1CC-4D17-A158-030E56B7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F13-CB41-47FF-BE0F-10D7EE3B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4CA-8E80-489C-A51A-DE044FB4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CDEF-662A-4DF0-B8AF-307FF985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AC0-E074-4F31-AED4-AF4414E1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A8B-D2E3-4713-BA41-25800546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8E2-24B4-4832-B5BF-B4988C37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5A0-4010-479F-9D25-22C2AD84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C97E-83A6-4269-873F-52D30161A15B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Envol 5: </a:t>
            </a:r>
            <a:br>
              <a:rPr sz="4400"/>
            </a:br>
            <a:r>
              <a:rPr b="0" lang="de-CH" sz="4400" spc="-1" strike="noStrike">
                <a:solidFill>
                  <a:srgbClr val="ff9218"/>
                </a:solidFill>
                <a:latin typeface="Arial Black"/>
              </a:rPr>
              <a:t>Les verbe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9240" y="2209680"/>
            <a:ext cx="858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e folgenden Verben si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218"/>
                </a:solidFill>
                <a:latin typeface="Arial"/>
              </a:rPr>
              <a:t>unregelmässi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e Endungen (</a:t>
            </a:r>
            <a:r>
              <a:rPr b="1" lang="en-US" sz="3600" spc="-1" strike="noStrike">
                <a:solidFill>
                  <a:srgbClr val="fa4e19"/>
                </a:solidFill>
                <a:latin typeface="Arial"/>
              </a:rPr>
              <a:t>ro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sind nicht imm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ei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halb gehören sie zu d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218"/>
                </a:solidFill>
                <a:latin typeface="Arial"/>
              </a:rPr>
              <a:t>schwierig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Verben, die du auswendi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rnen musst. Also immer wie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etiere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écrire (schreib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00" y="1600200"/>
            <a:ext cx="8085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’ éc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egg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éc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egg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éc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egg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écri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s eggriw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écri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s eggriw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écri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s eggri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24200" y="518148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Écri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Écriv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63120" y="171360"/>
            <a:ext cx="437328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eggr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ire (mach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27160" y="1600200"/>
            <a:ext cx="711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fa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ö 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fa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fa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fai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 fös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fai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 fet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fo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f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4200" y="518148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Fai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Fai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81920" y="171360"/>
            <a:ext cx="58471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feer (e off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prendre (nehm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080" y="1600200"/>
            <a:ext cx="8060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prend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ö pr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an (an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prend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pr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pren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pr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pren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 prön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on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prenez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 prön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prenn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pren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24200" y="518148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Prend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Pren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01040" y="171360"/>
            <a:ext cx="678636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pr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a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dr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a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venir (komm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120" y="1600200"/>
            <a:ext cx="80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vie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ö wi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än (än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vie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wi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ä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vie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wi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ä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ven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 wön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venez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 wön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vienn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wien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24200" y="518148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Vien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Ven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63120" y="171360"/>
            <a:ext cx="419508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vön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ler (geh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26440" y="1600200"/>
            <a:ext cx="719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vai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ö w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va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va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    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all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s all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allez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s all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vo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w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24200" y="518148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Va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All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62760" y="171360"/>
            <a:ext cx="409428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all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être (se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28600" y="1600200"/>
            <a:ext cx="714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sui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ö sü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e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e (e off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es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e (e off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somme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 somm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ête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s eet (e off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so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s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24200" y="518148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oi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oy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62400" y="171360"/>
            <a:ext cx="366300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ät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avoir (hab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6800" y="1600200"/>
            <a:ext cx="724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’ a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e (e geschloss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a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a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av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s av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avez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s aw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o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s 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62760" y="171360"/>
            <a:ext cx="439920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awu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pouvoir (könn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00200"/>
            <a:ext cx="782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peux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ö pöö (ö gesch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peux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pö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pe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pö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pouv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 puw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pouvez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 puw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peuv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pööf (ö off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63480" y="171360"/>
            <a:ext cx="47023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puwu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lire (les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26800" y="1600200"/>
            <a:ext cx="694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chö 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ü 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li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nu lis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on (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li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vu lis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li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il lis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24200" y="518148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Li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Lis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63480" y="171360"/>
            <a:ext cx="363564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li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9:54:41Z</dcterms:created>
  <dc:creator>Fredy Tochtermann</dc:creator>
  <dc:description/>
  <dc:language>en-US</dc:language>
  <cp:lastModifiedBy>Fredy Tochtermann</cp:lastModifiedBy>
  <dcterms:modified xsi:type="dcterms:W3CDTF">2006-08-04T06:57:52Z</dcterms:modified>
  <cp:revision>8</cp:revision>
  <dc:subject/>
  <dc:title>PowerPoint-Präsentation</dc:title>
</cp:coreProperties>
</file>