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94C-28DC-4D1B-9310-1DD13733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8715-0371-4980-8520-3E1950CD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EEB-1356-48A4-9D84-B046E0A1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24E-5966-4BD8-9745-E72C39B5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007D-951A-48BC-82FE-028E1139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095-9C3C-46FF-994F-07BB3FA9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7C7-F0A7-4C69-8A73-2E33C4B2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819-6822-4D17-98EF-1202E6FF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883-DDC9-4C53-91B6-469CC28D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53DF-CFA7-440C-9586-56FD1F32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578-9855-45C9-87CF-8D17E503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3D5-2F86-44D9-A23A-29BFD015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72F1-EE7E-47E9-BBBF-DD41545E2715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Envol 5: </a:t>
            </a:r>
            <a:br>
              <a:rPr sz="4400"/>
            </a:br>
            <a:r>
              <a:rPr b="0" lang="de-CH" sz="4400" spc="-1" strike="noStrike">
                <a:solidFill>
                  <a:srgbClr val="ff9218"/>
                </a:solidFill>
                <a:latin typeface="Arial Black"/>
              </a:rPr>
              <a:t>Les verbe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9240" y="2209680"/>
            <a:ext cx="858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e folgenden Verben si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218"/>
                </a:solidFill>
                <a:latin typeface="Arial"/>
              </a:rPr>
              <a:t>unregelmässi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e Endungen (</a:t>
            </a:r>
            <a:r>
              <a:rPr b="1" lang="en-US" sz="3600" spc="-1" strike="noStrike">
                <a:solidFill>
                  <a:srgbClr val="fa4e19"/>
                </a:solidFill>
                <a:latin typeface="Arial"/>
              </a:rPr>
              <a:t>ro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sind nicht imm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ei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halb gehören sie zu d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218"/>
                </a:solidFill>
                <a:latin typeface="Arial"/>
              </a:rPr>
              <a:t>schwierige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Verben, die du auswendi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rnen musst. Also immer wie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etiere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écrire (schreib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400" y="1600200"/>
            <a:ext cx="8085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’ écr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chegg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écr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ü egg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écr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egg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écriv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nus eggriw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 (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écriv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vus eggriw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écriv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s eggri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24200" y="518148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Écri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Écriv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63120" y="171360"/>
            <a:ext cx="437328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eggr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ire (mach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27160" y="1600200"/>
            <a:ext cx="711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fa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chö 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fa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ü 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fa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fai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nu fös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 (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fai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vu fet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fo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f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 (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24200" y="518148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Fai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Fai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81920" y="171360"/>
            <a:ext cx="584712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feer (e off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prendre (nehm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080" y="1600200"/>
            <a:ext cx="8060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prend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chö pr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an (an 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prend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ü pr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pren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pr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prenon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nu prön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 (on 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prenez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vu prön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prenn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pren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24200" y="518148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Prend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Pren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01040" y="171360"/>
            <a:ext cx="678636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pr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a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dr (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a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venir (komm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120" y="1600200"/>
            <a:ext cx="803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vien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chö wi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än (än 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vien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ü wi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ä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vien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wi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ä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venon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nu wön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 (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venez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vu wön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vienn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wien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24200" y="518148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Vien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Ven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63120" y="171360"/>
            <a:ext cx="419508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vön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ller (geh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26440" y="1600200"/>
            <a:ext cx="719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vai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chö w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va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ü w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va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    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w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allon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nus all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 (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allez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vus all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vo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w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 (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24200" y="518148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Va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All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62760" y="171360"/>
            <a:ext cx="409428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all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être (se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28600" y="1600200"/>
            <a:ext cx="714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sui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chö sü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e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ü e (e off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es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e (e off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somme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nu somm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ête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vus eet (e off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so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s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 (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24200" y="518148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Soi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Soy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62400" y="171360"/>
            <a:ext cx="366300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ät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avoir (hab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6800" y="1600200"/>
            <a:ext cx="724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’ a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che (e geschloss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a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ü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a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avon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nus av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(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avez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vus aw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o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s 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(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62760" y="171360"/>
            <a:ext cx="439920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awu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pouvoir (könn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00200"/>
            <a:ext cx="782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peux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chö pöö (ö gesch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peux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ü pö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pe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pö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pouvon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nu puw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 (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pouvez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vu puw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peuv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pööf (ö off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63480" y="171360"/>
            <a:ext cx="470232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puwu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lire (les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26800" y="1600200"/>
            <a:ext cx="694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l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chö 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l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ü 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l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li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nu lis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 (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li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vu lis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li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lis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24200" y="518148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Li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Lis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63480" y="171360"/>
            <a:ext cx="363564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li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9:54:41Z</dcterms:created>
  <dc:creator>Fredy Tochtermann</dc:creator>
  <dc:description/>
  <dc:language>en-US</dc:language>
  <cp:lastModifiedBy>Fredy Tochtermann</cp:lastModifiedBy>
  <dcterms:modified xsi:type="dcterms:W3CDTF">2006-08-04T06:57:52Z</dcterms:modified>
  <cp:revision>8</cp:revision>
  <dc:subject/>
  <dc:title>PowerPoint-Präsentation</dc:title>
</cp:coreProperties>
</file>