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97D-9673-4C14-A1A5-D8AA2D7C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8B4-F140-405B-9221-D81C4DB2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EC6-3644-4319-B1CD-597002F9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A41-0CF1-4CE4-9EEC-91E9EFB4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57F-54EF-4B49-8B7B-20784D98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BB2-46E3-4F6A-9796-0F1A271B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CD6-BD5D-445A-9CAB-3B0A44D1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DE2-EBE0-4F1F-98AD-7E7B3DF3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896-0437-4314-8238-EA10C7F5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5FE-0E7E-42F5-B265-A5878AE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E14-E99A-473B-B31B-90AC3D0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0B3-6C13-46C9-A4F4-8B299A0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58AD-6FCC-4931-839E-1A06240CCCAA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Envol 5: </a:t>
            </a:r>
            <a:br>
              <a:rPr sz="4400"/>
            </a:b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Les verbes (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-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1520" y="2438280"/>
            <a:ext cx="843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se Verben sind regelmässi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e Endungen (</a:t>
            </a:r>
            <a:r>
              <a:rPr b="1" lang="en-US" sz="3600" spc="-1" strike="noStrike">
                <a:solidFill>
                  <a:srgbClr val="fa4e19"/>
                </a:solidFill>
                <a:latin typeface="Arial"/>
              </a:rPr>
              <a:t>r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sind immer glei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halb gehören sie zu d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chten Ver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dessi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eichn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6800" y="1946160"/>
            <a:ext cx="376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dess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ss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ss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91040" y="5867280"/>
            <a:ext cx="50346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dessi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ravaill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arbeit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26800" y="1946160"/>
            <a:ext cx="376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ravail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avail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avail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90680" y="5867280"/>
            <a:ext cx="49082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rawai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olori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(ausmalen,färb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6800" y="1946160"/>
            <a:ext cx="353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olor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lor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lor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2480" y="5867280"/>
            <a:ext cx="51336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ggolori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rouv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find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7160" y="1946160"/>
            <a:ext cx="346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rouv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ouv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rouv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91400" y="5867280"/>
            <a:ext cx="45514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ruw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Black"/>
              </a:rPr>
              <a:t>cherch</a:t>
            </a:r>
            <a:r>
              <a:rPr b="0" lang="fr-FR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fr-FR" sz="4400" spc="-1" strike="noStrike">
                <a:solidFill>
                  <a:srgbClr val="000000"/>
                </a:solidFill>
                <a:latin typeface="Arial Black"/>
              </a:rPr>
              <a:t> (suc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7160" y="1946160"/>
            <a:ext cx="38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her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er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er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4600" y="5943600"/>
            <a:ext cx="83149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ach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versteck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1946160"/>
            <a:ext cx="340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a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a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a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0120" y="5867280"/>
            <a:ext cx="79063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gga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parl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prech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1946160"/>
            <a:ext cx="32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arl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ar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arl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91040" y="5867280"/>
            <a:ext cx="4425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arl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ontinu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CH" sz="3600" spc="-1" strike="noStrike">
                <a:solidFill>
                  <a:srgbClr val="000000"/>
                </a:solidFill>
                <a:latin typeface="Arial Black"/>
              </a:rPr>
              <a:t>(weitermac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6800" y="1946160"/>
            <a:ext cx="391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ontin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ntin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ntin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4640" y="5867280"/>
            <a:ext cx="75204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c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inü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han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in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7160" y="1946160"/>
            <a:ext cx="35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ha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46240" y="5562720"/>
            <a:ext cx="5187600" cy="119124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 / 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devi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rat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6800" y="1946160"/>
            <a:ext cx="353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devi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v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vi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2480" y="5867280"/>
            <a:ext cx="49050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döwi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rache und Endun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46160"/>
            <a:ext cx="722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schö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tü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il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nu rögar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vu rögard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il rög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our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drehen,wend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7160" y="1946160"/>
            <a:ext cx="348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our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r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r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91400" y="5867280"/>
            <a:ext cx="44755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ur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baiss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enk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6800" y="1946160"/>
            <a:ext cx="351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baiss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aiss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aiss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90680" y="5867280"/>
            <a:ext cx="46292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bes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i</a:t>
            </a:r>
            <a:r>
              <a:rPr b="0" lang="en-US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(beugen,falt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946160"/>
            <a:ext cx="290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pli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l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li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91760" y="5867280"/>
            <a:ext cx="41187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pli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sau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hüpfen,jump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946160"/>
            <a:ext cx="330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sa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a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a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91400" y="5867280"/>
            <a:ext cx="45514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soo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boug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bewe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6800" y="194616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boug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bou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ou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ou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200" y="5867280"/>
            <a:ext cx="7827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buu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wei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jou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spiel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6800" y="1946160"/>
            <a:ext cx="305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jou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Jo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Jou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4720" y="5791320"/>
            <a:ext cx="72691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u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wei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écou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uhör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7160" y="1946160"/>
            <a:ext cx="35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écou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91040" y="5867280"/>
            <a:ext cx="45270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ecu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aim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lie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7160" y="1946160"/>
            <a:ext cx="318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’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aim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0680" y="5867280"/>
            <a:ext cx="42483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e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regard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hinschau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26800" y="1946160"/>
            <a:ext cx="376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regard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1040" y="5867280"/>
            <a:ext cx="503460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rögard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mang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ess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7160" y="194616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mang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m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2760" y="5867280"/>
            <a:ext cx="757548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m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sch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montr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eig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7160" y="1946160"/>
            <a:ext cx="361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montr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ontr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Montr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9120" y="5791320"/>
            <a:ext cx="71665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m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r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touch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berühr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27160" y="1946160"/>
            <a:ext cx="35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touch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Touch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5040" y="5791320"/>
            <a:ext cx="752544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tu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hang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Arial Black"/>
              </a:rPr>
              <a:t>(wechseln,tausc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6800" y="1946160"/>
            <a:ext cx="369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hange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hang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hang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16120" y="5410080"/>
            <a:ext cx="5823000" cy="119124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scharf  / </a:t>
            </a:r>
            <a:r>
              <a:rPr b="1" lang="de-CH" sz="3600" spc="-1" strike="noStrike">
                <a:solidFill>
                  <a:srgbClr val="009999"/>
                </a:solidFill>
                <a:latin typeface="Arial"/>
              </a:rPr>
              <a:t>sch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wei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compt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zähl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7160" y="1946160"/>
            <a:ext cx="368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compt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mp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mpt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06920" y="5867280"/>
            <a:ext cx="713916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gg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ee (</a:t>
            </a: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on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 nas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donn</a:t>
            </a:r>
            <a:r>
              <a:rPr b="0" lang="de-CH" sz="4400" spc="-1" strike="noStrike">
                <a:solidFill>
                  <a:srgbClr val="fa4e19"/>
                </a:solidFill>
                <a:latin typeface="Arial Black"/>
              </a:rPr>
              <a:t>er</a:t>
            </a:r>
            <a:r>
              <a:rPr b="0" lang="de-CH" sz="4400" spc="-1" strike="noStrike">
                <a:solidFill>
                  <a:srgbClr val="000000"/>
                </a:solidFill>
                <a:latin typeface="Arial Black"/>
              </a:rPr>
              <a:t> (geb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6800" y="194616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je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u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/elle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us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vous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s/elles donn</a:t>
            </a:r>
            <a:r>
              <a:rPr b="0" lang="fr-FR" sz="3600" spc="-1" strike="noStrike">
                <a:solidFill>
                  <a:srgbClr val="fa4e19"/>
                </a:solidFill>
                <a:latin typeface="Arial"/>
              </a:rPr>
              <a:t>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8800" y="2189160"/>
            <a:ext cx="3538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fehlsform (imp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on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onn</a:t>
            </a:r>
            <a:r>
              <a:rPr b="1" lang="de-CH" sz="3200" spc="-1" strike="noStrike">
                <a:solidFill>
                  <a:srgbClr val="fa4e19"/>
                </a:solidFill>
                <a:latin typeface="Arial"/>
              </a:rPr>
              <a:t>ez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92120" y="5867280"/>
            <a:ext cx="47023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Aussprache: donn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8:30:31Z</dcterms:created>
  <dc:creator>Fredy Tochtermann</dc:creator>
  <dc:description/>
  <dc:language>en-US</dc:language>
  <cp:lastModifiedBy>Fredy Tochtermann</cp:lastModifiedBy>
  <dcterms:modified xsi:type="dcterms:W3CDTF">2006-08-04T06:56:23Z</dcterms:modified>
  <cp:revision>20</cp:revision>
  <dc:subject/>
  <dc:title>Envol 5: Les verbes</dc:title>
</cp:coreProperties>
</file>