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7066-2620-4EE4-8E8F-19CB917A5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7295-AEA8-42B7-8633-A2E019B5C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4409-7CD7-45B6-8267-5724E396D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42C8-2371-411D-B7E4-8482D54C7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BB56-046E-4F0D-9C07-0A4B4AB56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7451-6C3F-4A73-80E8-41A1D3B18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ABF1-B867-4D37-A2BF-73056D121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17D8-1BBD-465B-8BAB-615EDAE8C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A38F-A60F-445A-AC66-F35258DDA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0BDC-CC08-4B14-8545-5E34039FB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0B93-7D89-4C63-B927-FEDF5E67C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046D-862E-466B-AD80-0BE4D8BF7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B2D6D-8EEA-41BF-9E17-42417ED2AA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1.xml"/><Relationship Id="rId3" Type="http://schemas.openxmlformats.org/officeDocument/2006/relationships/slide" Target="slide3.xml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1.xml"/><Relationship Id="rId3" Type="http://schemas.openxmlformats.org/officeDocument/2006/relationships/slide" Target="slide11.xml"/><Relationship Id="rId4" Type="http://schemas.openxmlformats.org/officeDocument/2006/relationships/slide" Target="slide14.xml"/><Relationship Id="rId5" Type="http://schemas.openxmlformats.org/officeDocument/2006/relationships/slide" Target="slide14.xml"/><Relationship Id="rId6" Type="http://schemas.openxmlformats.org/officeDocument/2006/relationships/slide" Target="slide15.xml"/><Relationship Id="rId7" Type="http://schemas.openxmlformats.org/officeDocument/2006/relationships/slide" Target="slide16.xml"/><Relationship Id="rId8" Type="http://schemas.openxmlformats.org/officeDocument/2006/relationships/slide" Target="slide17.xml"/><Relationship Id="rId9" Type="http://schemas.openxmlformats.org/officeDocument/2006/relationships/slide" Target="slide18.xml"/><Relationship Id="rId10" Type="http://schemas.openxmlformats.org/officeDocument/2006/relationships/slide" Target="slide18.xml"/><Relationship Id="rId11" Type="http://schemas.openxmlformats.org/officeDocument/2006/relationships/slide" Target="slide18.xml"/><Relationship Id="rId12" Type="http://schemas.openxmlformats.org/officeDocument/2006/relationships/slide" Target="slide19.xml"/><Relationship Id="rId13" Type="http://schemas.openxmlformats.org/officeDocument/2006/relationships/slide" Target="slide3.xml"/><Relationship Id="rId1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1.xml"/><Relationship Id="rId3" Type="http://schemas.openxmlformats.org/officeDocument/2006/relationships/slide" Target="slide3.xm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1.xml"/><Relationship Id="rId3" Type="http://schemas.openxmlformats.org/officeDocument/2006/relationships/slide" Target="slide3.xml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1.xml"/><Relationship Id="rId3" Type="http://schemas.openxmlformats.org/officeDocument/2006/relationships/slide" Target="slide3.xm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1.xml"/><Relationship Id="rId3" Type="http://schemas.openxmlformats.org/officeDocument/2006/relationships/slide" Target="slide3.xm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1.xml"/><Relationship Id="rId3" Type="http://schemas.openxmlformats.org/officeDocument/2006/relationships/slide" Target="slide3.xml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1.xml"/><Relationship Id="rId3" Type="http://schemas.openxmlformats.org/officeDocument/2006/relationships/slide" Target="slide3.xml"/><Relationship Id="rId4" Type="http://schemas.openxmlformats.org/officeDocument/2006/relationships/hyperlink" Target="http://german.mailfrontier.com/survey/phishing_de.jsp" TargetMode="External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hyperlink" Target="http://www.internauten.de/" TargetMode="External"/><Relationship Id="rId4" Type="http://schemas.openxmlformats.org/officeDocument/2006/relationships/hyperlink" Target="http://www.security4kids.ch/" TargetMode="External"/><Relationship Id="rId5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" Target="slide3.xml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" Target="slide9.xml"/><Relationship Id="rId10" Type="http://schemas.openxmlformats.org/officeDocument/2006/relationships/slide" Target="slide10.xml"/><Relationship Id="rId11" Type="http://schemas.openxmlformats.org/officeDocument/2006/relationships/slide" Target="slide11.xml"/><Relationship Id="rId12" Type="http://schemas.openxmlformats.org/officeDocument/2006/relationships/slide" Target="slide11.xml"/><Relationship Id="rId1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1.xml"/><Relationship Id="rId3" Type="http://schemas.openxmlformats.org/officeDocument/2006/relationships/slide" Target="slide3.xml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internet-seepferdchen.de/nett.htm" TargetMode="External"/><Relationship Id="rId3" Type="http://schemas.openxmlformats.org/officeDocument/2006/relationships/slide" Target="slide11.xml"/><Relationship Id="rId4" Type="http://schemas.openxmlformats.org/officeDocument/2006/relationships/slide" Target="slide3.xml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1.xml"/><Relationship Id="rId3" Type="http://schemas.openxmlformats.org/officeDocument/2006/relationships/slide" Target="slide3.xml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vtxnet.ch/community/chat/smilies.asp" TargetMode="External"/><Relationship Id="rId3" Type="http://schemas.openxmlformats.org/officeDocument/2006/relationships/slide" Target="slide11.xml"/><Relationship Id="rId4" Type="http://schemas.openxmlformats.org/officeDocument/2006/relationships/slide" Target="slide3.xml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uwe-stoeckert.de/usenet/akronym.htm" TargetMode="External"/><Relationship Id="rId3" Type="http://schemas.openxmlformats.org/officeDocument/2006/relationships/slide" Target="slide11.xml"/><Relationship Id="rId4" Type="http://schemas.openxmlformats.org/officeDocument/2006/relationships/slide" Target="slide3.xml"/><Relationship Id="rId5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fit4chat.ch/" TargetMode="External"/><Relationship Id="rId3" Type="http://schemas.openxmlformats.org/officeDocument/2006/relationships/hyperlink" Target="http://www.safersurfing.ch/2/de/" TargetMode="External"/><Relationship Id="rId4" Type="http://schemas.openxmlformats.org/officeDocument/2006/relationships/slide" Target="slide11.xml"/><Relationship Id="rId5" Type="http://schemas.openxmlformats.org/officeDocument/2006/relationships/slide" Target="slide3.xml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569080" cy="633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 rot="1005600">
            <a:off x="899640" y="1916280"/>
            <a:ext cx="3979800" cy="3836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ffff00"/>
                </a:solidFill>
                <a:latin typeface="Arial"/>
              </a:rPr>
              <a:t>Mailen &amp; chatten?</a:t>
            </a:r>
            <a:r>
              <a:rPr b="0" lang="de-CH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0" lang="de-CH" sz="4400" spc="-1" strike="noStrike">
                <a:solidFill>
                  <a:srgbClr val="ff0000"/>
                </a:solidFill>
                <a:latin typeface="Arial"/>
              </a:rPr>
              <a:t>OK, aber richtig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3141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99"/>
                </a:solidFill>
                <a:latin typeface="Arial"/>
              </a:rPr>
              <a:t>Auf den folgenden Seiten erfährst du Wichtiges zu diesem The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95640" y="4724280"/>
            <a:ext cx="1079640" cy="764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400" spc="-1" strike="noStrike">
                <a:solidFill>
                  <a:srgbClr val="000099"/>
                </a:solidFill>
                <a:latin typeface="Arial"/>
              </a:rPr>
              <a:t>;-)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020000" y="5950080"/>
            <a:ext cx="17272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Zum Inha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A457-0518-4D03-BF07-6565A05F148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500"/>
                            </p:stCondLst>
                            <p:childTnLst>
                              <p:par>
                                <p:cTn id="21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4400" spc="-1" strike="noStrike">
                <a:solidFill>
                  <a:srgbClr val="ffff00"/>
                </a:solidFill>
                <a:latin typeface="Arial"/>
              </a:rPr>
              <a:t>Nicht reinfalle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1990080"/>
            <a:ext cx="7848360" cy="393444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uf solche Fragen </a:t>
            </a:r>
            <a:r>
              <a:rPr b="0" lang="de-DE" sz="1800" spc="-1" strike="noStrike">
                <a:solidFill>
                  <a:srgbClr val="ff0000"/>
                </a:solidFill>
                <a:latin typeface="Arial"/>
              </a:rPr>
              <a:t>keine oder eine falsche Antwort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geb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Welche Hobbys hast d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Wie alt bist d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Wie lange darfst du am Samstag ausgeh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Willst du das neueste Handy für 10 Franken kauf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Willst du in einem Teenagerfilm mitspiel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Möchtest du gerne mal Fotomodell sei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Gibst du mir deine Adresse, damit ich dir Starfotos senden kan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Hast du auch eine Mailadres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Wissen deine Eltern, dass du am Chatten bis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Schickst du mir ein Bild von dir, damit ich sehe, wie hübsch du bis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Hättest du Lust auf ein richtiges Treff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Hast du schon einen Freund oder eine Freundi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rId2" action="ppaction://hlinksldjump"/>
          </p:cNvPr>
          <p:cNvSpPr/>
          <p:nvPr/>
        </p:nvSpPr>
        <p:spPr>
          <a:xfrm>
            <a:off x="161280" y="6329520"/>
            <a:ext cx="156636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Zum Inhalt: Mailen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>
            <a:hlinkClick r:id="rId3" action="ppaction://hlinksldjump"/>
          </p:cNvPr>
          <p:cNvSpPr/>
          <p:nvPr/>
        </p:nvSpPr>
        <p:spPr>
          <a:xfrm>
            <a:off x="1837080" y="6340320"/>
            <a:ext cx="165312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Zum Inhalt: Chatten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DB48-2547-499F-9724-7F259867EEE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ffff00"/>
                </a:solidFill>
                <a:latin typeface="Arial"/>
              </a:rPr>
              <a:t>Mai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4360" y="2049480"/>
            <a:ext cx="7777080" cy="1739880"/>
          </a:xfrm>
          <a:prstGeom prst="rect">
            <a:avLst/>
          </a:prstGeom>
          <a:solidFill>
            <a:srgbClr val="fbdf53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Die Kommunikation via Internet mit Mailprogrammen ist schnell und un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kompliziert, viel effizienter als mit Brief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Auch lassen sich Dokumente (Texte, Bilder, Musik) mitgeb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Weil das Internet aber auch von vielen Betrügern und Hackern miss-braucht wird, ist das Mailen und das Versenden und Oeffnen von Anhän-gen leider auch mit Risiken verbund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3932280"/>
            <a:ext cx="7777080" cy="2288520"/>
          </a:xfrm>
          <a:prstGeom prst="rect">
            <a:avLst/>
          </a:prstGeom>
          <a:solidFill>
            <a:srgbClr val="fbdf53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 u="sng">
                <a:solidFill>
                  <a:srgbClr val="0000cc"/>
                </a:solidFill>
                <a:uFillTx/>
                <a:latin typeface="Arial"/>
                <a:hlinkClick r:id="rId2" action="ppaction://hlinksldjump"/>
              </a:rPr>
              <a:t>Korrekt </a:t>
            </a:r>
            <a:r>
              <a:rPr b="0" lang="de-CH" sz="1800" spc="-1" strike="noStrike" u="sng">
                <a:solidFill>
                  <a:srgbClr val="0000cc"/>
                </a:solidFill>
                <a:uFillTx/>
                <a:latin typeface="Arial"/>
                <a:hlinkClick r:id="rId3" action="ppaction://hlinksldjump"/>
              </a:rPr>
              <a:t>mai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 u="sng">
                <a:solidFill>
                  <a:srgbClr val="0000cc"/>
                </a:solidFill>
                <a:uFillTx/>
                <a:latin typeface="Arial"/>
                <a:hlinkClick r:id="rId4" action="ppaction://hlinksldjump"/>
              </a:rPr>
              <a:t>Netiquette</a:t>
            </a:r>
            <a:r>
              <a:rPr b="0" lang="de-CH" sz="1800" spc="-1" strike="noStrike" u="sng">
                <a:solidFill>
                  <a:srgbClr val="0000cc"/>
                </a:solidFill>
                <a:uFillTx/>
                <a:latin typeface="Arial"/>
                <a:hlinkClick r:id="rId5" action="ppaction://hlinksldjump"/>
              </a:rPr>
              <a:t> 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(Regel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Kopie und Blindkop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 u="sng">
                <a:solidFill>
                  <a:srgbClr val="0000cc"/>
                </a:solidFill>
                <a:uFillTx/>
                <a:latin typeface="Arial"/>
                <a:hlinkClick r:id="rId6" action="ppaction://hlinksldjump"/>
              </a:rPr>
              <a:t>Antworten und weiterlei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 u="sng">
                <a:solidFill>
                  <a:srgbClr val="0000cc"/>
                </a:solidFill>
                <a:uFillTx/>
                <a:latin typeface="Arial"/>
                <a:hlinkClick r:id="rId7" action="ppaction://hlinksldjump"/>
              </a:rPr>
              <a:t>Dateianhänge mitgeb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 u="sng">
                <a:solidFill>
                  <a:srgbClr val="0000cc"/>
                </a:solidFill>
                <a:uFillTx/>
                <a:latin typeface="Arial"/>
                <a:hlinkClick r:id="rId8" action="ppaction://hlinksldjump"/>
              </a:rPr>
              <a:t>Dateianhänge öff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 u="sng">
                <a:solidFill>
                  <a:srgbClr val="0000cc"/>
                </a:solidFill>
                <a:uFillTx/>
                <a:latin typeface="Arial"/>
                <a:hlinkClick r:id="rId9" action="ppaction://hlinksldjump"/>
              </a:rPr>
              <a:t>Spams</a:t>
            </a:r>
            <a:r>
              <a:rPr b="0" lang="de-CH" sz="1800" spc="-1" strike="noStrike" u="sng">
                <a:solidFill>
                  <a:srgbClr val="0000cc"/>
                </a:solidFill>
                <a:uFillTx/>
                <a:latin typeface="Arial"/>
                <a:hlinkClick r:id="rId10" action="ppaction://hlinksldjump"/>
              </a:rPr>
              <a:t> und </a:t>
            </a:r>
            <a:r>
              <a:rPr b="0" lang="de-CH" sz="1800" spc="-1" strike="noStrike" u="sng">
                <a:solidFill>
                  <a:srgbClr val="0000cc"/>
                </a:solidFill>
                <a:uFillTx/>
                <a:latin typeface="Arial"/>
                <a:hlinkClick r:id="rId11" action="ppaction://hlinksldjump"/>
              </a:rPr>
              <a:t>Junkm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 u="sng">
                <a:solidFill>
                  <a:srgbClr val="0000cc"/>
                </a:solidFill>
                <a:uFillTx/>
                <a:latin typeface="Arial"/>
                <a:hlinkClick r:id="rId12" action="ppaction://hlinksldjump"/>
              </a:rPr>
              <a:t>Phis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067280" y="4724280"/>
            <a:ext cx="20095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Themenlink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1" name="">
            <a:hlinkClick r:id="rId13" action="ppaction://hlinksldjump"/>
          </p:cNvPr>
          <p:cNvSpPr/>
          <p:nvPr/>
        </p:nvSpPr>
        <p:spPr>
          <a:xfrm>
            <a:off x="181440" y="6340320"/>
            <a:ext cx="165312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Zum Inhalt: Chatten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E13B-9BE7-4AFE-879E-B052CEFF5E2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4400" spc="-1" strike="noStrike">
                <a:solidFill>
                  <a:srgbClr val="ffff00"/>
                </a:solidFill>
                <a:latin typeface="Arial"/>
              </a:rPr>
              <a:t>Korrekt mai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rId2" action="ppaction://hlinksldjump"/>
          </p:cNvPr>
          <p:cNvSpPr/>
          <p:nvPr/>
        </p:nvSpPr>
        <p:spPr>
          <a:xfrm>
            <a:off x="161280" y="6329520"/>
            <a:ext cx="156636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Zum Inhalt: Mailen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rId3" action="ppaction://hlinksldjump"/>
          </p:cNvPr>
          <p:cNvSpPr/>
          <p:nvPr/>
        </p:nvSpPr>
        <p:spPr>
          <a:xfrm>
            <a:off x="1837080" y="6340320"/>
            <a:ext cx="165312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Zum Inhalt: Chatten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rcRect l="0" t="0" r="0" b="27598"/>
          <a:stretch/>
        </p:blipFill>
        <p:spPr>
          <a:xfrm>
            <a:off x="755640" y="1989000"/>
            <a:ext cx="7704000" cy="410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"/>
          <p:cNvSpPr/>
          <p:nvPr/>
        </p:nvSpPr>
        <p:spPr>
          <a:xfrm>
            <a:off x="2250360" y="2655720"/>
            <a:ext cx="25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peter.muster@gmx.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71960" y="2924280"/>
            <a:ext cx="145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Stunden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5400" y="3665520"/>
            <a:ext cx="579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Ciao Peter</a:t>
            </a:r>
            <a:br>
              <a:rPr sz="1800"/>
            </a:b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Wie versprochen sende ich dir den neuen Stundenpl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Bis ba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Fre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524720" y="3860640"/>
            <a:ext cx="503280" cy="720720"/>
          </a:xfrm>
          <a:prstGeom prst="upArrow">
            <a:avLst>
              <a:gd name="adj1" fmla="val 50000"/>
              <a:gd name="adj2" fmla="val 35801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E2BC-0ECC-4697-AB65-0366F65B04D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801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802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00399999976158142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2003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4400" spc="-1" strike="noStrike">
                <a:solidFill>
                  <a:srgbClr val="ffff00"/>
                </a:solidFill>
                <a:latin typeface="Arial"/>
              </a:rPr>
              <a:t>Kopie und Blindkop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1280" y="6329520"/>
            <a:ext cx="156636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Zum Inhalt: Mailen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837080" y="6340320"/>
            <a:ext cx="165312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Zum Inhalt: Chatten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rcRect l="0" t="0" r="0" b="27598"/>
          <a:stretch/>
        </p:blipFill>
        <p:spPr>
          <a:xfrm>
            <a:off x="755640" y="1989000"/>
            <a:ext cx="7704000" cy="410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2250360" y="2655720"/>
            <a:ext cx="25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peter.muster@gmx.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71960" y="2924280"/>
            <a:ext cx="145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Stunden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049400" y="3933720"/>
            <a:ext cx="57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Du kannst auch eine </a:t>
            </a:r>
            <a:r>
              <a:rPr b="0" lang="de-CH" sz="1800" spc="-1" strike="noStrike">
                <a:solidFill>
                  <a:srgbClr val="ff0000"/>
                </a:solidFill>
                <a:latin typeface="Arial"/>
              </a:rPr>
              <a:t>Kopie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 deiner Mail versen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Eine </a:t>
            </a:r>
            <a:r>
              <a:rPr b="0" lang="de-CH" sz="1800" spc="-1" strike="noStrike">
                <a:solidFill>
                  <a:srgbClr val="ff0000"/>
                </a:solidFill>
                <a:latin typeface="Arial"/>
              </a:rPr>
              <a:t>Blindkopie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 ist unsichtbar für den Hauptempfäng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10800000">
            <a:off x="1547640" y="2492280"/>
            <a:ext cx="503280" cy="720720"/>
          </a:xfrm>
          <a:prstGeom prst="upArrow">
            <a:avLst>
              <a:gd name="adj1" fmla="val 50000"/>
              <a:gd name="adj2" fmla="val 35801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3959-4B45-4F6B-927B-39731BFAF04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00399999976158142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4400" spc="-1" strike="noStrike">
                <a:solidFill>
                  <a:srgbClr val="ffff00"/>
                </a:solidFill>
                <a:latin typeface="Arial"/>
              </a:rPr>
              <a:t>Nettique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rId2" action="ppaction://hlinksldjump"/>
          </p:cNvPr>
          <p:cNvSpPr/>
          <p:nvPr/>
        </p:nvSpPr>
        <p:spPr>
          <a:xfrm>
            <a:off x="161280" y="6329520"/>
            <a:ext cx="156636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Zum Inhalt: Mailen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rId3" action="ppaction://hlinksldjump"/>
          </p:cNvPr>
          <p:cNvSpPr/>
          <p:nvPr/>
        </p:nvSpPr>
        <p:spPr>
          <a:xfrm>
            <a:off x="1837080" y="6340320"/>
            <a:ext cx="165312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Zum Inhalt: Chatten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4360" y="2049480"/>
            <a:ext cx="7777080" cy="2288520"/>
          </a:xfrm>
          <a:prstGeom prst="rect">
            <a:avLst/>
          </a:prstGeom>
          <a:solidFill>
            <a:srgbClr val="fbdf53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Der Betreff ist sehr wichtig. Er soll kurz und deutlich se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Immer eine Anrede schreiben. Eine Mail ist wie ein Brie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Die Mitteilungen sollen klar, kurz und informativ se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Ein Gruss gehört daz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Am Schluss steht der Na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Beleidigungen gehören nicht in Mai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Grossbuchstaben wirken wie laut gesproch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Auch Ausrufezeichen sind nicht übli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329D-361C-4C49-884E-4301BBA5663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4400" spc="-1" strike="noStrike">
                <a:solidFill>
                  <a:srgbClr val="ffff00"/>
                </a:solidFill>
                <a:latin typeface="Arial"/>
              </a:rPr>
              <a:t>Antworten und weiterlei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547640" y="2060640"/>
            <a:ext cx="5991480" cy="2038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684360" y="4508640"/>
            <a:ext cx="7777080" cy="1191240"/>
          </a:xfrm>
          <a:prstGeom prst="rect">
            <a:avLst/>
          </a:prstGeom>
          <a:solidFill>
            <a:srgbClr val="fbdf53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Eine praktische Sach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Zum Beantworten von Mails nur auf „antworten“ klick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Falls jemand anderes die Mail erhalten soll, genügt ein Klick auf „weiter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leiten“ und die Eingabe der Mailadresse des Empfäng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3429000"/>
            <a:ext cx="1079280" cy="431640"/>
          </a:xfrm>
          <a:prstGeom prst="rightArrow">
            <a:avLst>
              <a:gd name="adj1" fmla="val 50000"/>
              <a:gd name="adj2" fmla="val 62510"/>
            </a:avLst>
          </a:prstGeom>
          <a:solidFill>
            <a:srgbClr val="00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2349360"/>
            <a:ext cx="503280" cy="1152720"/>
          </a:xfrm>
          <a:prstGeom prst="downArrow">
            <a:avLst>
              <a:gd name="adj1" fmla="val 50000"/>
              <a:gd name="adj2" fmla="val 57260"/>
            </a:avLst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6A38-DAE7-43FF-8651-43F06D21022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4400" spc="-1" strike="noStrike">
                <a:solidFill>
                  <a:srgbClr val="ffff00"/>
                </a:solidFill>
                <a:latin typeface="Arial"/>
              </a:rPr>
              <a:t>Dateianhänge mitgeb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>
            <a:hlinkClick r:id="rId2" action="ppaction://hlinksldjump"/>
          </p:cNvPr>
          <p:cNvSpPr/>
          <p:nvPr/>
        </p:nvSpPr>
        <p:spPr>
          <a:xfrm>
            <a:off x="161280" y="6329520"/>
            <a:ext cx="156636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Zum Inhalt: Mailen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rId3" action="ppaction://hlinksldjump"/>
          </p:cNvPr>
          <p:cNvSpPr/>
          <p:nvPr/>
        </p:nvSpPr>
        <p:spPr>
          <a:xfrm>
            <a:off x="1837080" y="6340320"/>
            <a:ext cx="165312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Zum Inhalt: Chatten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1476360" y="2133720"/>
            <a:ext cx="6029280" cy="1400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826920" y="3716280"/>
            <a:ext cx="7777440" cy="1465560"/>
          </a:xfrm>
          <a:prstGeom prst="rect">
            <a:avLst/>
          </a:prstGeom>
          <a:solidFill>
            <a:srgbClr val="fbdf53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Datei mit „Durchsuchen“ definier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Datei hinzufü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Alles nochmals kontrollieren und durchlesen. (weg ist we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Wenn die Mail fertig ist, sen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Anhänge sollten nicht grösser als etwa 3 MB se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924360" y="24210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227640" y="234936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7451640" y="2708280"/>
            <a:ext cx="3049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CEB4-5185-4D65-9DCE-B795FE97AE9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" nodeType="afterEffect" fill="hold" presetClass="entr" presetID="23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6000"/>
                            </p:stCondLst>
                            <p:childTnLst>
                              <p:par>
                                <p:cTn id="169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4400" spc="-1" strike="noStrike">
                <a:solidFill>
                  <a:srgbClr val="ffff00"/>
                </a:solidFill>
                <a:latin typeface="Arial"/>
              </a:rPr>
              <a:t>Dateianhänge öff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>
            <a:hlinkClick r:id="rId2" action="ppaction://hlinksldjump"/>
          </p:cNvPr>
          <p:cNvSpPr/>
          <p:nvPr/>
        </p:nvSpPr>
        <p:spPr>
          <a:xfrm>
            <a:off x="161280" y="6329520"/>
            <a:ext cx="156636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Zum Inhalt: Mailen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rId3" action="ppaction://hlinksldjump"/>
          </p:cNvPr>
          <p:cNvSpPr/>
          <p:nvPr/>
        </p:nvSpPr>
        <p:spPr>
          <a:xfrm>
            <a:off x="1837080" y="6340320"/>
            <a:ext cx="165312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Zum Inhalt: Chatten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1547640" y="2060640"/>
            <a:ext cx="5991480" cy="2038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55640" y="4221000"/>
            <a:ext cx="7777080" cy="1465560"/>
          </a:xfrm>
          <a:prstGeom prst="rect">
            <a:avLst/>
          </a:prstGeom>
          <a:solidFill>
            <a:srgbClr val="fbdf53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Dateianhänge (Dokumente, Bilder, Musik) können angesehen, gehört und abgespeichert wer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0000"/>
                </a:solidFill>
                <a:latin typeface="Arial"/>
              </a:rPr>
              <a:t>Achtung!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Nur öffnen, wenn du sicher bist, dass der Absender in Ordnung ist. Sie können Viren, Trojaner und andere Schädlinge enthalte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859280" y="2781360"/>
            <a:ext cx="1800360" cy="64764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87B9-C453-4A13-BB3C-9F38B4298AA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4400" spc="-1" strike="noStrike">
                <a:solidFill>
                  <a:srgbClr val="ffff00"/>
                </a:solidFill>
                <a:latin typeface="Arial"/>
              </a:rPr>
              <a:t>Spams und Junkm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rId2" action="ppaction://hlinksldjump"/>
          </p:cNvPr>
          <p:cNvSpPr/>
          <p:nvPr/>
        </p:nvSpPr>
        <p:spPr>
          <a:xfrm>
            <a:off x="161280" y="6329520"/>
            <a:ext cx="156636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Zum Inhalt: Mailen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rId3" action="ppaction://hlinksldjump"/>
          </p:cNvPr>
          <p:cNvSpPr/>
          <p:nvPr/>
        </p:nvSpPr>
        <p:spPr>
          <a:xfrm>
            <a:off x="1837080" y="6340320"/>
            <a:ext cx="165312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Zum Inhalt: Chatten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4"/>
          <a:srcRect l="0" t="0" r="0" b="40283"/>
          <a:stretch/>
        </p:blipFill>
        <p:spPr>
          <a:xfrm>
            <a:off x="1547640" y="1989000"/>
            <a:ext cx="6029640" cy="1871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5" name=""/>
          <p:cNvSpPr/>
          <p:nvPr/>
        </p:nvSpPr>
        <p:spPr>
          <a:xfrm>
            <a:off x="755640" y="4221000"/>
            <a:ext cx="7777080" cy="1465560"/>
          </a:xfrm>
          <a:prstGeom prst="rect">
            <a:avLst/>
          </a:prstGeom>
          <a:solidFill>
            <a:srgbClr val="fbdf53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Spams und Junkmails sind unerwünschte Mails mit Blödsinn oder Wer-bu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Manchmal erkennt sie das Programm selb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Wenn du den Absender nicht kennst oder ein komischer Betreff steh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0000"/>
                </a:solidFill>
                <a:latin typeface="Arial"/>
              </a:rPr>
              <a:t>immer löschen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0" lang="de-CH" sz="1800" spc="-1" strike="noStrike">
                <a:solidFill>
                  <a:srgbClr val="ff0000"/>
                </a:solidFill>
                <a:latin typeface="Arial"/>
              </a:rPr>
              <a:t>nie öffnen und ansehen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68360" y="2852640"/>
            <a:ext cx="3240360" cy="1152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B3C7-257D-484F-8130-D0A924F5346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4400" spc="-1" strike="noStrike">
                <a:solidFill>
                  <a:srgbClr val="ffff00"/>
                </a:solidFill>
                <a:latin typeface="Arial"/>
              </a:rPr>
              <a:t>Phis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>
            <a:hlinkClick r:id="rId2" action="ppaction://hlinksldjump"/>
          </p:cNvPr>
          <p:cNvSpPr/>
          <p:nvPr/>
        </p:nvSpPr>
        <p:spPr>
          <a:xfrm>
            <a:off x="161280" y="6329520"/>
            <a:ext cx="156636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Zum Inhalt: Mailen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>
            <a:hlinkClick r:id="rId3" action="ppaction://hlinksldjump"/>
          </p:cNvPr>
          <p:cNvSpPr/>
          <p:nvPr/>
        </p:nvSpPr>
        <p:spPr>
          <a:xfrm>
            <a:off x="1837080" y="6340320"/>
            <a:ext cx="165312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Zum Inhalt: Chatten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3640" y="5445000"/>
            <a:ext cx="58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Phishing-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cc"/>
                </a:solidFill>
                <a:uFillTx/>
                <a:latin typeface="Arial"/>
                <a:hlinkClick r:id="rId4"/>
              </a:rPr>
              <a:t>http://german.mailfrontier.com/survey/phishing_de.j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4360" y="2205000"/>
            <a:ext cx="7777080" cy="2837160"/>
          </a:xfrm>
          <a:prstGeom prst="rect">
            <a:avLst/>
          </a:prstGeom>
          <a:solidFill>
            <a:srgbClr val="fbdf53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Mit diesem Begriff sind </a:t>
            </a:r>
            <a:r>
              <a:rPr b="0" lang="de-CH" sz="1800" spc="-1" strike="noStrike">
                <a:solidFill>
                  <a:srgbClr val="ff0000"/>
                </a:solidFill>
                <a:latin typeface="Arial"/>
              </a:rPr>
              <a:t>gefälschte Internetseiten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 von Banken und andern Firmengemeint, die aber täuschend echt ausseh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So versuchen die Gauner, an die </a:t>
            </a:r>
            <a:r>
              <a:rPr b="0" lang="de-CH" sz="1800" spc="-1" strike="noStrike">
                <a:solidFill>
                  <a:srgbClr val="ff0000"/>
                </a:solidFill>
                <a:latin typeface="Arial"/>
              </a:rPr>
              <a:t>Kontonummern und Passwörter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 heranzukomm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Der Trick: Sie senden Mails und verlangen, man solle unbedingt etwas kontrollier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Das tut eine Bank n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Phishing betrifft in der Regel nicht die Jugendlich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Leute, die ihre Bankkonten übers Internet verwalten, müssen hier vorsichtig se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6924-0D71-41DC-8797-5C67EF41593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00"/>
                </a:solidFill>
                <a:latin typeface="Arial"/>
              </a:rPr>
              <a:t>Allgemeine</a:t>
            </a:r>
            <a:r>
              <a:rPr b="0" lang="de-CH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CH" sz="3600" spc="-1" strike="noStrike">
                <a:solidFill>
                  <a:srgbClr val="ffff00"/>
                </a:solidFill>
                <a:latin typeface="Arial"/>
              </a:rPr>
              <a:t>Gefahren im Intern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55640" y="2637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4360" y="2060640"/>
            <a:ext cx="7775280" cy="22885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Du solltest folgende Risiken kenn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Wenn du surfst, hinterlässt du Spuren im Inter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Dein PC sollte mit einem Antivirusprogramm und ei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Firewall (Schutzmauer) ausgerüstet sein. (Es gibt g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Gratisprogramme wie </a:t>
            </a:r>
            <a:r>
              <a:rPr b="0" lang="de-CH" sz="1800" spc="-1" strike="noStrike">
                <a:solidFill>
                  <a:srgbClr val="ffff00"/>
                </a:solidFill>
                <a:latin typeface="Arial"/>
              </a:rPr>
              <a:t>Antivir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 oder </a:t>
            </a:r>
            <a:r>
              <a:rPr b="0" lang="de-CH" sz="1800" spc="-1" strike="noStrike">
                <a:solidFill>
                  <a:srgbClr val="ffff00"/>
                </a:solidFill>
                <a:latin typeface="Arial"/>
              </a:rPr>
              <a:t>ZoneAlarm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Beim Surfen vorsichtig sein mit Clicken und Downloa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Regeln beim Chatten und Mailen einhal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76720" y="765000"/>
            <a:ext cx="676080" cy="6098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665360" y="5229360"/>
            <a:ext cx="5778360" cy="91692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Links zum Lernen und Ueb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http://www.internauten.de/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 u="sng">
                <a:solidFill>
                  <a:srgbClr val="0000cc"/>
                </a:solidFill>
                <a:uFillTx/>
                <a:latin typeface="Arial"/>
                <a:hlinkClick r:id="rId4"/>
              </a:rPr>
              <a:t>http://www.security4kids.ch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F60B-DB27-435B-BCD1-47A8B45AA2F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6801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4400" spc="-1" strike="noStrike">
                <a:solidFill>
                  <a:srgbClr val="ffff00"/>
                </a:solidFill>
                <a:latin typeface="Arial"/>
              </a:rPr>
              <a:t>En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4360" y="2205000"/>
            <a:ext cx="7777080" cy="1739880"/>
          </a:xfrm>
          <a:prstGeom prst="rect">
            <a:avLst/>
          </a:prstGeom>
          <a:solidFill>
            <a:srgbClr val="fbdf53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Wenn du die ganze Lerneinheit durchgearbeitet hast, kennst du nun die Probleme mit Chatten und Mail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Mit der nötigen Vorsicht und deinem Wissen kannst du nun die neu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Kommunikationsformen nütz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Ein kleiner Abschlusstest prüft nun zum Schluss deine Kenntnis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6227640" y="4221000"/>
            <a:ext cx="2303640" cy="1643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5" name=""/>
          <p:cNvSpPr/>
          <p:nvPr/>
        </p:nvSpPr>
        <p:spPr>
          <a:xfrm>
            <a:off x="161280" y="6329520"/>
            <a:ext cx="156636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Zum Inhalt: Mailen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>
            <a:hlinkClick r:id="rId3" action="ppaction://hlinksldjump"/>
          </p:cNvPr>
          <p:cNvSpPr/>
          <p:nvPr/>
        </p:nvSpPr>
        <p:spPr>
          <a:xfrm>
            <a:off x="1837080" y="6340320"/>
            <a:ext cx="165312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Zum Inhalt: Chatten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68880" y="4313160"/>
            <a:ext cx="4973760" cy="1191240"/>
          </a:xfrm>
          <a:prstGeom prst="rect">
            <a:avLst/>
          </a:prstGeom>
          <a:solidFill>
            <a:srgbClr val="ff66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Weitere Dokumente zum Lesen und Speicher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SchoolNetGuide 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Chatten? Aber sich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Internet 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BEC6-63E1-4130-AE0B-9E91F09D2BB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763640" y="1989000"/>
            <a:ext cx="5904000" cy="370620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 u="sng">
                <a:solidFill>
                  <a:srgbClr val="0000cc"/>
                </a:solidFill>
                <a:uFillTx/>
                <a:latin typeface="Arial"/>
                <a:hlinkClick r:id="rId2" action="ppaction://hlinksldjump"/>
              </a:rPr>
              <a:t>Was heisst </a:t>
            </a:r>
            <a:r>
              <a:rPr b="0" lang="de-CH" sz="1800" spc="-1" strike="noStrike" u="sng">
                <a:solidFill>
                  <a:srgbClr val="0000cc"/>
                </a:solidFill>
                <a:uFillTx/>
                <a:latin typeface="Arial"/>
                <a:hlinkClick r:id="rId3" action="ppaction://hlinksldjump"/>
              </a:rPr>
              <a:t>Chatten</a:t>
            </a:r>
            <a:r>
              <a:rPr b="0" lang="de-CH" sz="1800" spc="-1" strike="noStrike" u="sng">
                <a:solidFill>
                  <a:srgbClr val="0000cc"/>
                </a:solidFill>
                <a:uFillTx/>
                <a:latin typeface="Arial"/>
                <a:hlinkClick r:id="rId4" action="ppaction://hlinksldjump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 u="sng">
                <a:solidFill>
                  <a:srgbClr val="0000cc"/>
                </a:solidFill>
                <a:uFillTx/>
                <a:latin typeface="Arial"/>
                <a:hlinkClick r:id="rId5" action="ppaction://hlinksldjump"/>
              </a:rPr>
              <a:t>Die </a:t>
            </a:r>
            <a:r>
              <a:rPr b="0" lang="de-CH" sz="1800" spc="-1" strike="noStrike" u="sng">
                <a:solidFill>
                  <a:srgbClr val="0000cc"/>
                </a:solidFill>
                <a:uFillTx/>
                <a:latin typeface="Arial"/>
                <a:hlinkClick r:id="rId6" action="ppaction://hlinksldjump"/>
              </a:rPr>
              <a:t>Netiqu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 u="sng">
                <a:solidFill>
                  <a:srgbClr val="0000cc"/>
                </a:solidFill>
                <a:uFillTx/>
                <a:latin typeface="Arial"/>
                <a:hlinkClick r:id="rId7" action="ppaction://hlinksldjump"/>
              </a:rPr>
              <a:t>Nickn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 u="sng">
                <a:solidFill>
                  <a:srgbClr val="0000cc"/>
                </a:solidFill>
                <a:uFillTx/>
                <a:latin typeface="Arial"/>
                <a:hlinkClick r:id="rId8" action="ppaction://hlinksldjump"/>
              </a:rPr>
              <a:t>Emotic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Akrony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 u="sng">
                <a:solidFill>
                  <a:srgbClr val="0000cc"/>
                </a:solidFill>
                <a:uFillTx/>
                <a:latin typeface="Arial"/>
                <a:hlinkClick r:id="rId9" action="ppaction://hlinksldjump"/>
              </a:rPr>
              <a:t>Chatregel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 u="sng">
                <a:solidFill>
                  <a:srgbClr val="0000cc"/>
                </a:solidFill>
                <a:uFillTx/>
                <a:latin typeface="Arial"/>
                <a:hlinkClick r:id="rId10" action="ppaction://hlinksldjump"/>
              </a:rPr>
              <a:t>Nicht reinfal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 u="sng">
                <a:solidFill>
                  <a:srgbClr val="0000cc"/>
                </a:solidFill>
                <a:uFillTx/>
                <a:latin typeface="Arial"/>
                <a:hlinkClick r:id="rId11" action="ppaction://hlinksldjump"/>
              </a:rPr>
              <a:t>Mai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4400" spc="-1" strike="noStrike">
                <a:solidFill>
                  <a:srgbClr val="ffff00"/>
                </a:solidFill>
                <a:latin typeface="Arial"/>
              </a:rPr>
              <a:t>Inha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12" action="ppaction://hlinksldjump"/>
          </p:cNvPr>
          <p:cNvSpPr/>
          <p:nvPr/>
        </p:nvSpPr>
        <p:spPr>
          <a:xfrm>
            <a:off x="161280" y="6329520"/>
            <a:ext cx="156636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Zum Inhalt: Mailen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EB8B-FFAE-4C6B-9B91-5A2B23AE219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4400" spc="-1" strike="noStrike">
                <a:solidFill>
                  <a:srgbClr val="ffff00"/>
                </a:solidFill>
                <a:latin typeface="Arial"/>
              </a:rPr>
              <a:t>Was heisst „chatten“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2211840"/>
            <a:ext cx="7848360" cy="256284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s Wort „to chat“ bedeutet im Englischen „plaudern“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Normalerweise spricht man direkt miteinan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Nun kannst du aber im Internet durch die Eingabe von Wörtern mit and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kommunizier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Es gibt verschiedene Chaträume, in denen beliebig viele Leute mitmach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könn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Die TeilnehmerInnen müssen nur zur gleichen Zeit online sein und sich im gleichen Chatroom aufhal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2" action="ppaction://hlinksldjump"/>
          </p:cNvPr>
          <p:cNvSpPr/>
          <p:nvPr/>
        </p:nvSpPr>
        <p:spPr>
          <a:xfrm>
            <a:off x="161280" y="6329520"/>
            <a:ext cx="156636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Zum Inhalt: Mailen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3" action="ppaction://hlinksldjump"/>
          </p:cNvPr>
          <p:cNvSpPr/>
          <p:nvPr/>
        </p:nvSpPr>
        <p:spPr>
          <a:xfrm>
            <a:off x="1837080" y="6340320"/>
            <a:ext cx="165312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Zum Inhalt: Chatten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1075-6970-46C6-A349-946A4B76066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4400" spc="-1" strike="noStrike">
                <a:solidFill>
                  <a:srgbClr val="ffff00"/>
                </a:solidFill>
                <a:latin typeface="Arial"/>
              </a:rPr>
              <a:t>Die Netique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2276280"/>
            <a:ext cx="7848360" cy="9169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 diesem Wort ist Etikette und net (Netz) verbun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Darunter verstehen wir Verhaltens- und Anstandsregeln im Netz, die m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sowohl beim Chatten wie beim Mailen einhalten soll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179800" y="4745160"/>
            <a:ext cx="417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http://internet-seepferdchen.de/nett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3" action="ppaction://hlinksldjump"/>
          </p:cNvPr>
          <p:cNvSpPr/>
          <p:nvPr/>
        </p:nvSpPr>
        <p:spPr>
          <a:xfrm>
            <a:off x="161280" y="6329520"/>
            <a:ext cx="156636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Zum Inhalt: Mailen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4" action="ppaction://hlinksldjump"/>
          </p:cNvPr>
          <p:cNvSpPr/>
          <p:nvPr/>
        </p:nvSpPr>
        <p:spPr>
          <a:xfrm>
            <a:off x="1837080" y="6340320"/>
            <a:ext cx="165312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Zum Inhalt: Chatten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5848-F153-4883-BFFA-9564B081F7A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4400" spc="-1" strike="noStrike">
                <a:solidFill>
                  <a:srgbClr val="ffff00"/>
                </a:solidFill>
                <a:latin typeface="Arial"/>
              </a:rPr>
              <a:t>Nickna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2141280"/>
            <a:ext cx="7848360" cy="119124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im Chatten in frei zugänglichen Chatrooms benutzt man normalerwe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ie den eigenen Namen, sondern man erfindet einen Uebernamen, eben einen Nickname. Er sollte am besten gar nichts mit der eigenen Person zu tun hab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rId2" action="ppaction://hlinksldjump"/>
          </p:cNvPr>
          <p:cNvSpPr/>
          <p:nvPr/>
        </p:nvSpPr>
        <p:spPr>
          <a:xfrm>
            <a:off x="161280" y="6329520"/>
            <a:ext cx="156636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Zum Inhalt: Mailen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rId3" action="ppaction://hlinksldjump"/>
          </p:cNvPr>
          <p:cNvSpPr/>
          <p:nvPr/>
        </p:nvSpPr>
        <p:spPr>
          <a:xfrm>
            <a:off x="1837080" y="6340320"/>
            <a:ext cx="165312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Zum Inhalt: Chatten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BE95-7864-4357-BEB6-C21293ADB40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4400" spc="-1" strike="noStrike">
                <a:solidFill>
                  <a:srgbClr val="ffff00"/>
                </a:solidFill>
                <a:latin typeface="Arial"/>
              </a:rPr>
              <a:t>Emotic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4360" y="2175480"/>
            <a:ext cx="7848360" cy="28371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o nennt man die Gefühlszeichen, die mit Satzzeichen und Buchstab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geschrieben werden. Das Wort ist eine Mischung von</a:t>
            </a:r>
            <a:r>
              <a:rPr b="0" lang="de-CH" sz="1800" spc="-1" strike="noStrike">
                <a:solidFill>
                  <a:srgbClr val="ff0000"/>
                </a:solidFill>
                <a:latin typeface="Arial"/>
              </a:rPr>
              <a:t> Emotion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 (Gefüh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und</a:t>
            </a:r>
            <a:r>
              <a:rPr b="0" lang="de-CH" sz="1800" spc="-1" strike="noStrike">
                <a:solidFill>
                  <a:srgbClr val="ff0000"/>
                </a:solidFill>
                <a:latin typeface="Arial"/>
              </a:rPr>
              <a:t> Icon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 (Zeichen). Zum Lesen muss man den Kopf etwas nach 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nei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Beispie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:-) bedeutet: einfaches Lächel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;-) bedeutet: Augenzwinkern, nicht ganz ernst geme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:-( bedeutet: nicht lustig, traurig, enttäus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195640" y="5838840"/>
            <a:ext cx="508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http://www.vtxnet.ch/community/chat/smilies.a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rId3" action="ppaction://hlinksldjump"/>
          </p:cNvPr>
          <p:cNvSpPr/>
          <p:nvPr/>
        </p:nvSpPr>
        <p:spPr>
          <a:xfrm>
            <a:off x="161280" y="6329520"/>
            <a:ext cx="156636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Zum Inhalt: Mailen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rId4" action="ppaction://hlinksldjump"/>
          </p:cNvPr>
          <p:cNvSpPr/>
          <p:nvPr/>
        </p:nvSpPr>
        <p:spPr>
          <a:xfrm>
            <a:off x="1837080" y="6340320"/>
            <a:ext cx="165312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Zum Inhalt: Chatten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8AEF-6733-4022-A936-54DD7F030C0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755640" y="2131920"/>
            <a:ext cx="7777080" cy="28371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s Akronym (griechisch ákros - die Spitze, der Rand 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ónymos - der Name) ist eine Abkürzung, die als eigenes W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esprochen wird, bei der die Buchstaben also nicht einzel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esprochen werd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um Beispiel </a:t>
            </a:r>
            <a:r>
              <a:rPr b="0" lang="de-DE" sz="1800" spc="-1" strike="noStrike">
                <a:solidFill>
                  <a:srgbClr val="ff0000"/>
                </a:solidFill>
                <a:latin typeface="Arial"/>
              </a:rPr>
              <a:t>asap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ls Abkürzung für «</a:t>
            </a:r>
            <a:r>
              <a:rPr b="0" lang="de-DE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de-DE" sz="1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on </a:t>
            </a:r>
            <a:r>
              <a:rPr b="0" lang="de-DE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de-DE" sz="1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ssible», engl. «so schnell wie möglich»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Die meisten Akronyme sind englisch, deutsche gibt es weniger. Ein Beispiel ist </a:t>
            </a:r>
            <a:r>
              <a:rPr b="0" lang="de-CH" sz="1800" spc="-1" strike="noStrike">
                <a:solidFill>
                  <a:srgbClr val="ff0000"/>
                </a:solidFill>
                <a:latin typeface="Arial"/>
              </a:rPr>
              <a:t>mfg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 (mit freundlichen Grüssen) oder </a:t>
            </a:r>
            <a:r>
              <a:rPr b="0" lang="de-CH" sz="1800" spc="-1" strike="noStrike">
                <a:solidFill>
                  <a:srgbClr val="ff0000"/>
                </a:solidFill>
                <a:latin typeface="Arial"/>
              </a:rPr>
              <a:t>lg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 (liebe Grüss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Man kann auch selber erfin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4400" spc="-1" strike="noStrike">
                <a:solidFill>
                  <a:srgbClr val="ffff00"/>
                </a:solidFill>
                <a:latin typeface="Arial"/>
              </a:rPr>
              <a:t>Akrony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8000" y="5445000"/>
            <a:ext cx="58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http://www.uwe-stoeckert.de/usenet/akronym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rId3" action="ppaction://hlinksldjump"/>
          </p:cNvPr>
          <p:cNvSpPr/>
          <p:nvPr/>
        </p:nvSpPr>
        <p:spPr>
          <a:xfrm>
            <a:off x="161280" y="6329520"/>
            <a:ext cx="156636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Zum Inhalt: Mailen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rId4" action="ppaction://hlinksldjump"/>
          </p:cNvPr>
          <p:cNvSpPr/>
          <p:nvPr/>
        </p:nvSpPr>
        <p:spPr>
          <a:xfrm>
            <a:off x="1837080" y="6340320"/>
            <a:ext cx="165312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Zum Inhalt: Chatten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3C60-F749-417A-B4AE-F91C6AB6C5D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4400" spc="-1" strike="noStrike">
                <a:solidFill>
                  <a:srgbClr val="ffff00"/>
                </a:solidFill>
                <a:latin typeface="Arial"/>
              </a:rPr>
              <a:t>Chatregel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4360" y="2342880"/>
            <a:ext cx="7848360" cy="256284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b </a:t>
            </a:r>
            <a:r>
              <a:rPr b="0" lang="de-DE" sz="1800" spc="-1" strike="noStrike" u="sng">
                <a:solidFill>
                  <a:srgbClr val="ffff00"/>
                </a:solidFill>
                <a:uFillTx/>
                <a:latin typeface="Arial"/>
              </a:rPr>
              <a:t>niemals</a:t>
            </a:r>
            <a:r>
              <a:rPr b="0" lang="de-DE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sönliche Date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wie deinen vollständigen Namen, deine Adresse, den Namen deiner Schule oder deine Telefonnummer innerhalb von Chats prei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hicke niemandem ein Foto von dir, ohne vorher darüber mit deinen Eltern oder einer anderen erwachsenen Vertrauensperson gesprochen zu hab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Gib niemals ein Passwort wei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Triff niemals eine Person, die du im Internet kennen gelernt hast, ohne 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deinen Eltern gesprochen zu hab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Glaube nicht alles, was dir im Chat erzählt wird. Sei misstrauisch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95640" y="5300640"/>
            <a:ext cx="508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e dich: </a:t>
            </a:r>
            <a:r>
              <a:rPr b="0" lang="en-US" sz="18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http://www.fit4chat.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http://www.safersurfing.ch/2/de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rId4" action="ppaction://hlinksldjump"/>
          </p:cNvPr>
          <p:cNvSpPr/>
          <p:nvPr/>
        </p:nvSpPr>
        <p:spPr>
          <a:xfrm>
            <a:off x="161280" y="6329520"/>
            <a:ext cx="156636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Zum Inhalt: Mailen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rId5" action="ppaction://hlinksldjump"/>
          </p:cNvPr>
          <p:cNvSpPr/>
          <p:nvPr/>
        </p:nvSpPr>
        <p:spPr>
          <a:xfrm>
            <a:off x="1837080" y="6340320"/>
            <a:ext cx="165312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Zum Inhalt: Chatten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E587-E5A5-4F8F-A88D-A10A25E0266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3T13:24:20Z</dcterms:created>
  <dc:creator>SHL</dc:creator>
  <dc:description/>
  <dc:language>en-US</dc:language>
  <cp:lastModifiedBy>SHL</cp:lastModifiedBy>
  <dcterms:modified xsi:type="dcterms:W3CDTF">2007-07-10T09:53:26Z</dcterms:modified>
  <cp:revision>45</cp:revision>
  <dc:subject/>
  <dc:title>Chatten? OK, aber richtig!</dc:title>
</cp:coreProperties>
</file>